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1EE-ECAC-47CE-8675-08F13905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89880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6679-1D7F-4671-8366-AD0950DE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220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926-87A8-411F-8660-CC85AB79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616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724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616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724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2CD7-7ECF-4E79-B113-127CA69E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EE71-9EA5-4740-86D0-7ADFCFBB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D910-A690-49A9-BCCF-C475424D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8B05-7216-456C-980A-E0288BA3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CC89-64EA-4EC3-9316-2C02CCF3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FF97-A837-4123-A64E-3BCBE533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E683-169B-43AB-85EA-887ED65C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33F4-EC8E-481D-94D3-BD957B3C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5025-24ED-45FC-8964-F9E81021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220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D7A1-873F-4E31-9C27-0064F17A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3AE8-2D2B-4DA5-AAC8-E358C7A7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89880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102F-0A32-42EF-B416-516D893F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220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AC06-C4D0-4036-A440-0985277C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616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07240" y="137124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616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07240" y="3898800"/>
            <a:ext cx="248616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48EC-777F-4AD0-8D07-7CC0A61F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90A-F27F-4A1A-AFCD-5FCCA1A9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A89-FB96-4153-BA6E-E33166C7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6E9-81AB-46B2-AC5E-83214700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19D9-86CE-4CEA-ADB1-D3FB8F03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B65-727D-4F6A-8875-67D85CEA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2200" y="389880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04EE-83BA-41C6-B62F-DC2B8FC2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2200" y="1371240"/>
            <a:ext cx="376812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898800"/>
            <a:ext cx="7721640" cy="23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F05-82EB-434C-80D4-7AE22A88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371240"/>
            <a:ext cx="772164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B48A-2B74-47C2-9681-6FADBAFE4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11360" y="1257480"/>
            <a:ext cx="777240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C5AA-52C8-4389-95C9-9CD9E46F9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33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520" y="2285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Front-end electronics developments for OPERA</a:t>
            </a:r>
            <a:endParaRPr b="1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C. de LA TAILLE, G. MARTIN-CHASSARD, L. RAU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LAL Ors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T.D. LE, P. SCHMIT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IRES Strasbou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:/www.lal.in2p3.fr/technique/se/oper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20356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3876840" cy="3352680"/>
          </a:xfrm>
          <a:prstGeom prst="rect">
            <a:avLst/>
          </a:prstGeom>
          <a:ln w="0">
            <a:noFill/>
          </a:ln>
        </p:spPr>
      </p:pic>
      <p:pic>
        <p:nvPicPr>
          <p:cNvPr id="804" name="NOISE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4095720" cy="3344760"/>
          </a:xfrm>
          <a:prstGeom prst="rect">
            <a:avLst/>
          </a:prstGeom>
          <a:ln w="0">
            <a:noFill/>
          </a:ln>
        </p:spPr>
      </p:pic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ise measurements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PD preamp (2000/0.8 PMO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.5 mA,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7.1 mA/V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= 1.7 nV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√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Hz</a:t>
            </a:r>
            <a:r>
              <a:rPr b="1" lang="en-US" sz="1600" spc="-1" strike="noStrike">
                <a:solidFill>
                  <a:srgbClr val="ff00ff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= 8 pF,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ENC(75ns,6pF)=550 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gnificant gate resistance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~ 8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. and substrate resistance nois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LAS 10 000/0.8 AMS PMOS transistor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.5 mA, 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8 mA/V, 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= 1.0 nV/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√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Hz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= 21 p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um gate resistance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~ 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and substrate resistance nois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6766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503080" y="32004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HPD pre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70560" y="320040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10000/0.8 P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F4E-976A-42EF-8CF8-51981BB21C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ise improvement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w layout for ~50% noise improv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ze : 2000/0.8 similar transconductance (7 mA/V) with smaller capacitance  (8 p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t geometry to 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minimize gate resist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: 8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Bias substr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ositively  (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+2V) to mimimize substrate nois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:  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= 1.0 nV/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√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Hz, C</a:t>
            </a:r>
            <a:r>
              <a:rPr b="1" lang="en-US" sz="1600" spc="-1" strike="noStrike" baseline="-25000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9900"/>
                </a:solidFill>
                <a:latin typeface="Times New Roman"/>
              </a:rPr>
              <a:t> = 8 p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t 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.5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893920" y="4570560"/>
            <a:ext cx="274536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design : 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6 p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 = 550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@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75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 = 300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@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50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Goal :   (with C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= 6 p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ENC = 300 e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@ 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= 75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ENC = 150 e</a:t>
            </a:r>
            <a:r>
              <a:rPr b="0" lang="en-US" sz="1800" spc="-1" strike="noStrike" baseline="30000">
                <a:solidFill>
                  <a:srgbClr val="0000ff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@ t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= 500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1"/>
          <a:stretch/>
        </p:blipFill>
        <p:spPr>
          <a:xfrm>
            <a:off x="762120" y="2870280"/>
            <a:ext cx="4419360" cy="345420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 flipH="1" flipV="1">
            <a:off x="3047760" y="4876560"/>
            <a:ext cx="2819160" cy="990360"/>
          </a:xfrm>
          <a:prstGeom prst="line">
            <a:avLst/>
          </a:prstGeom>
          <a:ln cap="sq"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4419360" y="5486040"/>
            <a:ext cx="1447560" cy="609480"/>
          </a:xfrm>
          <a:prstGeom prst="line">
            <a:avLst/>
          </a:prstGeom>
          <a:ln cap="sq"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414040" y="2805120"/>
            <a:ext cx="28656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pacitance breakdow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OS : 2.5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put pads : 0.8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nj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: 0.5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age : 1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CB : 2.4 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819520" y="4267080"/>
            <a:ext cx="75960" cy="76320"/>
          </a:xfrm>
          <a:prstGeom prst="ellipse">
            <a:avLst/>
          </a:prstGeom>
          <a:solidFill>
            <a:srgbClr val="ff99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267080" y="4876920"/>
            <a:ext cx="76320" cy="75960"/>
          </a:xfrm>
          <a:prstGeom prst="ellipse">
            <a:avLst/>
          </a:prstGeom>
          <a:solidFill>
            <a:srgbClr val="ff99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819520" y="4876920"/>
            <a:ext cx="75960" cy="75960"/>
          </a:xfrm>
          <a:prstGeom prst="ellipse">
            <a:avLst/>
          </a:prstGeom>
          <a:solidFill>
            <a:srgbClr val="ff99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267080" y="5334120"/>
            <a:ext cx="76320" cy="75960"/>
          </a:xfrm>
          <a:prstGeom prst="ellipse">
            <a:avLst/>
          </a:prstGeom>
          <a:solidFill>
            <a:srgbClr val="ff9999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4419720" y="4952520"/>
            <a:ext cx="137160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2971440" y="4343040"/>
            <a:ext cx="2895480" cy="6858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FBCE-BACF-4E92-8BE1-4723B37724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easurement results (II)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low sh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500 ns  G = 2.7 mV/photoelec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ity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0.5 % up to 300 photoelectr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st sh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pling with preamp inputs -&gt; oscil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ld only be measur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SIGSLOWN" descr=""/>
          <p:cNvPicPr/>
          <p:nvPr/>
        </p:nvPicPr>
        <p:blipFill>
          <a:blip r:embed="rId1"/>
          <a:stretch/>
        </p:blipFill>
        <p:spPr>
          <a:xfrm>
            <a:off x="4800600" y="131436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SIGFASTN" descr=""/>
          <p:cNvPicPr/>
          <p:nvPr/>
        </p:nvPicPr>
        <p:blipFill>
          <a:blip r:embed="rId2"/>
          <a:stretch/>
        </p:blipFill>
        <p:spPr>
          <a:xfrm>
            <a:off x="4800600" y="37339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RESSLOWL" descr=""/>
          <p:cNvPicPr/>
          <p:nvPr/>
        </p:nvPicPr>
        <p:blipFill>
          <a:blip r:embed="rId3"/>
          <a:stretch/>
        </p:blipFill>
        <p:spPr>
          <a:xfrm>
            <a:off x="838080" y="228600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1322640" y="4311720"/>
            <a:ext cx="308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Slow shaper : Residuals of linear f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981800" y="36576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± 0.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95280" y="2590920"/>
            <a:ext cx="266724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295280" y="3733920"/>
            <a:ext cx="266724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757480" y="327672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low shaper Qin=10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520680" y="49528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ast shaper Qin=10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7BE3-1C03-468F-9B9D-8918FC7ECE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easurement results (III)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k and ho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channels fun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destal variation : ~ 100 mV : to be impr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 multiplexer :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crimina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offset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yet 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84F-8392-40AB-8CB0-844968034D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nclusion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MT ch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th designs fully fun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er noise with common base but more robust design with current mi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noise (~ 0.01 p.e.), linearity 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% up to ~ 100 photoelectr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trigger output (12 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PD c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ly partially functional (oscillations in fast shap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ise : 550e- = 0.2 p.e. at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75 ns,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6pF ; 300e- at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500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amp noise can be decreased by 50%, down to 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1.0 nV/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√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H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or 300 e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t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75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 with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0.5% up to ~ 300 photoelectr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dy for one it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detector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ll scale prototyp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461-FD21-443F-B941-B5BEA08C36A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ariable gain preamp for PMT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on base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Fast current integr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: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(1+ s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input impedance (1/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25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-&gt; 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crosstalk re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variation by changing 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rom10 pF to 45 pF (3 bits) -&gt; can easily be exten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ay time kept constant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200 ns) by also switching resis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35320" y="2970720"/>
            <a:ext cx="6246000" cy="3043800"/>
            <a:chOff x="535320" y="2970720"/>
            <a:chExt cx="6246000" cy="3043800"/>
          </a:xfrm>
        </p:grpSpPr>
        <p:sp>
          <p:nvSpPr>
            <p:cNvPr id="90" name=""/>
            <p:cNvSpPr/>
            <p:nvPr/>
          </p:nvSpPr>
          <p:spPr>
            <a:xfrm flipH="1">
              <a:off x="2837880" y="4338720"/>
              <a:ext cx="283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3906360" y="5509800"/>
              <a:ext cx="284400" cy="188280"/>
              <a:chOff x="3906360" y="5509800"/>
              <a:chExt cx="284400" cy="188280"/>
            </a:xfrm>
          </p:grpSpPr>
          <p:sp>
            <p:nvSpPr>
              <p:cNvPr id="92" name=""/>
              <p:cNvSpPr/>
              <p:nvPr/>
            </p:nvSpPr>
            <p:spPr>
              <a:xfrm>
                <a:off x="3962880" y="5603400"/>
                <a:ext cx="22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39063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40197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13352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4075200" y="550980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581360" y="5509800"/>
              <a:ext cx="284400" cy="188280"/>
              <a:chOff x="4581360" y="5509800"/>
              <a:chExt cx="284400" cy="188280"/>
            </a:xfrm>
          </p:grpSpPr>
          <p:sp>
            <p:nvSpPr>
              <p:cNvPr id="98" name=""/>
              <p:cNvSpPr/>
              <p:nvPr/>
            </p:nvSpPr>
            <p:spPr>
              <a:xfrm>
                <a:off x="4637880" y="5603400"/>
                <a:ext cx="22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45813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46947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480852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4750200" y="550980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256360" y="5509800"/>
              <a:ext cx="284400" cy="188280"/>
              <a:chOff x="5256360" y="5509800"/>
              <a:chExt cx="284400" cy="188280"/>
            </a:xfrm>
          </p:grpSpPr>
          <p:sp>
            <p:nvSpPr>
              <p:cNvPr id="104" name=""/>
              <p:cNvSpPr/>
              <p:nvPr/>
            </p:nvSpPr>
            <p:spPr>
              <a:xfrm>
                <a:off x="5312880" y="5603400"/>
                <a:ext cx="22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52563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536976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483520" y="560340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5425200" y="550980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499840" y="5181120"/>
              <a:ext cx="284040" cy="188280"/>
              <a:chOff x="2499840" y="5181120"/>
              <a:chExt cx="284040" cy="188280"/>
            </a:xfrm>
          </p:grpSpPr>
          <p:sp>
            <p:nvSpPr>
              <p:cNvPr id="110" name=""/>
              <p:cNvSpPr/>
              <p:nvPr/>
            </p:nvSpPr>
            <p:spPr>
              <a:xfrm>
                <a:off x="2556000" y="5274720"/>
                <a:ext cx="22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2499840" y="527472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613240" y="527472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2726640" y="5274720"/>
                <a:ext cx="5724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668680" y="518112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500200" y="4338360"/>
              <a:ext cx="337320" cy="234000"/>
              <a:chOff x="2500200" y="4338360"/>
              <a:chExt cx="337320" cy="234000"/>
            </a:xfrm>
          </p:grpSpPr>
          <p:sp>
            <p:nvSpPr>
              <p:cNvPr id="116" name=""/>
              <p:cNvSpPr/>
              <p:nvPr/>
            </p:nvSpPr>
            <p:spPr>
              <a:xfrm flipH="1" flipV="1">
                <a:off x="2500200" y="4338360"/>
                <a:ext cx="11232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724840" y="4338360"/>
                <a:ext cx="11232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500200" y="4478760"/>
                <a:ext cx="337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668680" y="447876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 flipV="1">
              <a:off x="3175560" y="4151520"/>
              <a:ext cx="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075200" y="4151520"/>
              <a:ext cx="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750560" y="4151520"/>
              <a:ext cx="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425560" y="4151520"/>
              <a:ext cx="0" cy="37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62880" y="49946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669040" y="4572720"/>
              <a:ext cx="0" cy="60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075200" y="532260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750560" y="532260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425560" y="532260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075200" y="36831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750560" y="48074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5425560" y="48074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175560" y="3261240"/>
              <a:ext cx="0" cy="42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262160" y="5181840"/>
              <a:ext cx="284400" cy="188280"/>
              <a:chOff x="1262160" y="5181840"/>
              <a:chExt cx="284400" cy="188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318320" y="5275440"/>
                <a:ext cx="2250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262160" y="5275440"/>
                <a:ext cx="57240" cy="9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1375560" y="5275440"/>
                <a:ext cx="57240" cy="9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1489320" y="5275440"/>
                <a:ext cx="57240" cy="94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1431360" y="5181840"/>
                <a:ext cx="0" cy="93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868320" y="5181840"/>
              <a:ext cx="284400" cy="187920"/>
              <a:chOff x="868320" y="5181840"/>
              <a:chExt cx="284400" cy="187920"/>
            </a:xfrm>
          </p:grpSpPr>
          <p:sp>
            <p:nvSpPr>
              <p:cNvPr id="140" name=""/>
              <p:cNvSpPr/>
              <p:nvPr/>
            </p:nvSpPr>
            <p:spPr>
              <a:xfrm flipH="1">
                <a:off x="868320" y="5275440"/>
                <a:ext cx="57240" cy="94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981720" y="5275440"/>
                <a:ext cx="57240" cy="94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1095480" y="5275440"/>
                <a:ext cx="57240" cy="94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24840" y="5275440"/>
                <a:ext cx="2250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1037160" y="5181840"/>
                <a:ext cx="0" cy="936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V="1">
              <a:off x="1431360" y="4901040"/>
              <a:ext cx="0" cy="280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937520" y="4338720"/>
              <a:ext cx="56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162880" y="433872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431360" y="4338360"/>
              <a:ext cx="0" cy="32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37520" y="4338720"/>
              <a:ext cx="863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75560" y="4807440"/>
              <a:ext cx="0" cy="107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75560" y="5884560"/>
              <a:ext cx="24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70720" y="4338720"/>
              <a:ext cx="44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50560" y="5884560"/>
              <a:ext cx="44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47120" y="4315680"/>
              <a:ext cx="5616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03280" y="4315680"/>
              <a:ext cx="56160" cy="464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34440" y="4315680"/>
              <a:ext cx="5616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22480" y="4315680"/>
              <a:ext cx="5580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97480" y="4315680"/>
              <a:ext cx="5580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47480" y="4315680"/>
              <a:ext cx="55800" cy="46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948760" y="2971080"/>
              <a:ext cx="455040" cy="290520"/>
              <a:chOff x="2948760" y="2971080"/>
              <a:chExt cx="455040" cy="29052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062160" y="3168000"/>
                <a:ext cx="225000" cy="93600"/>
                <a:chOff x="3062160" y="3168000"/>
                <a:chExt cx="225000" cy="936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175200" y="31680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3062160" y="316800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2948760" y="297108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162880" y="518184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2049840" y="5275800"/>
              <a:ext cx="22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31760" y="522216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318680" y="4636440"/>
              <a:ext cx="660960" cy="280440"/>
              <a:chOff x="1318680" y="4636440"/>
              <a:chExt cx="660960" cy="2804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318680" y="4636440"/>
                <a:ext cx="224640" cy="280440"/>
                <a:chOff x="1318680" y="4636440"/>
                <a:chExt cx="224640" cy="2804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318680" y="4823640"/>
                  <a:ext cx="2246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318680" y="4729680"/>
                  <a:ext cx="2246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430640" y="4823640"/>
                  <a:ext cx="0" cy="93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430640" y="4636440"/>
                  <a:ext cx="0" cy="93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1413360" y="463932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C 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535320" y="4573080"/>
              <a:ext cx="586080" cy="421200"/>
              <a:chOff x="535320" y="4573080"/>
              <a:chExt cx="586080" cy="42120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952920" y="4573080"/>
                <a:ext cx="168480" cy="421200"/>
                <a:chOff x="952920" y="4573080"/>
                <a:chExt cx="168480" cy="42120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952920" y="4666680"/>
                  <a:ext cx="168480" cy="234000"/>
                  <a:chOff x="952920" y="4666680"/>
                  <a:chExt cx="168480" cy="2340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952920" y="4760280"/>
                    <a:ext cx="168480" cy="140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952920" y="4666680"/>
                    <a:ext cx="168480" cy="140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 flipV="1">
                  <a:off x="1037160" y="4900680"/>
                  <a:ext cx="0" cy="93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1037160" y="4573080"/>
                  <a:ext cx="0" cy="936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 flipV="1">
                <a:off x="868320" y="4596120"/>
                <a:ext cx="0" cy="374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5320" y="4645080"/>
                <a:ext cx="406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I 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612960" y="3355200"/>
              <a:ext cx="529560" cy="327960"/>
              <a:chOff x="3612960" y="3355200"/>
              <a:chExt cx="529560" cy="32796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4018320" y="3355200"/>
                <a:ext cx="56160" cy="327960"/>
                <a:chOff x="4018320" y="3355200"/>
                <a:chExt cx="56160" cy="327960"/>
              </a:xfrm>
            </p:grpSpPr>
            <p:sp>
              <p:nvSpPr>
                <p:cNvPr id="186" name=""/>
                <p:cNvSpPr/>
                <p:nvPr/>
              </p:nvSpPr>
              <p:spPr>
                <a:xfrm flipH="1" flipV="1">
                  <a:off x="4018320" y="344880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074480" y="358956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V="1">
                  <a:off x="4074480" y="33552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612960" y="339624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R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288320" y="3355200"/>
              <a:ext cx="529560" cy="327960"/>
              <a:chOff x="4288320" y="3355200"/>
              <a:chExt cx="529560" cy="32796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4693680" y="3355200"/>
                <a:ext cx="56160" cy="327960"/>
                <a:chOff x="4693680" y="3355200"/>
                <a:chExt cx="56160" cy="327960"/>
              </a:xfrm>
            </p:grpSpPr>
            <p:sp>
              <p:nvSpPr>
                <p:cNvPr id="192" name=""/>
                <p:cNvSpPr/>
                <p:nvPr/>
              </p:nvSpPr>
              <p:spPr>
                <a:xfrm flipH="1" flipV="1">
                  <a:off x="4693680" y="344880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49840" y="358956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4749840" y="33552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4288320" y="339624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R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964400" y="3355200"/>
              <a:ext cx="529560" cy="327960"/>
              <a:chOff x="4964400" y="3355200"/>
              <a:chExt cx="529560" cy="32796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368680" y="3355200"/>
                <a:ext cx="56160" cy="327960"/>
                <a:chOff x="5368680" y="3355200"/>
                <a:chExt cx="56160" cy="327960"/>
              </a:xfrm>
            </p:grpSpPr>
            <p:sp>
              <p:nvSpPr>
                <p:cNvPr id="198" name=""/>
                <p:cNvSpPr/>
                <p:nvPr/>
              </p:nvSpPr>
              <p:spPr>
                <a:xfrm flipH="1" flipV="1">
                  <a:off x="5368680" y="344880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24840" y="358956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24840" y="33552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4964400" y="339624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R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4964400" y="4994640"/>
              <a:ext cx="529560" cy="327600"/>
              <a:chOff x="4964400" y="4994640"/>
              <a:chExt cx="529560" cy="32760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5368680" y="4994640"/>
                <a:ext cx="56160" cy="327600"/>
                <a:chOff x="5368680" y="4994640"/>
                <a:chExt cx="56160" cy="327600"/>
              </a:xfrm>
            </p:grpSpPr>
            <p:sp>
              <p:nvSpPr>
                <p:cNvPr id="204" name=""/>
                <p:cNvSpPr/>
                <p:nvPr/>
              </p:nvSpPr>
              <p:spPr>
                <a:xfrm flipH="1" flipV="1">
                  <a:off x="5368680" y="508824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424840" y="5228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424840" y="4994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4964400" y="503640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C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3612960" y="4994640"/>
              <a:ext cx="529560" cy="327600"/>
              <a:chOff x="3612960" y="4994640"/>
              <a:chExt cx="529560" cy="32760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4018320" y="4994640"/>
                <a:ext cx="56160" cy="327600"/>
                <a:chOff x="4018320" y="4994640"/>
                <a:chExt cx="56160" cy="327600"/>
              </a:xfrm>
            </p:grpSpPr>
            <p:sp>
              <p:nvSpPr>
                <p:cNvPr id="210" name=""/>
                <p:cNvSpPr/>
                <p:nvPr/>
              </p:nvSpPr>
              <p:spPr>
                <a:xfrm flipH="1" flipV="1">
                  <a:off x="4018320" y="508824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74480" y="5228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4074480" y="4994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3612960" y="503640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C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288320" y="4994640"/>
              <a:ext cx="529560" cy="327600"/>
              <a:chOff x="4288320" y="4994640"/>
              <a:chExt cx="529560" cy="3276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693680" y="4994640"/>
                <a:ext cx="56160" cy="327600"/>
                <a:chOff x="4693680" y="4994640"/>
                <a:chExt cx="56160" cy="327600"/>
              </a:xfrm>
            </p:grpSpPr>
            <p:sp>
              <p:nvSpPr>
                <p:cNvPr id="216" name=""/>
                <p:cNvSpPr/>
                <p:nvPr/>
              </p:nvSpPr>
              <p:spPr>
                <a:xfrm flipH="1" flipV="1">
                  <a:off x="4693680" y="5088240"/>
                  <a:ext cx="55800" cy="14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749840" y="5228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4749840" y="499464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4288320" y="5036400"/>
                <a:ext cx="529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000" spc="-1" strike="noStrike">
                    <a:solidFill>
                      <a:srgbClr val="000000"/>
                    </a:solidFill>
                    <a:latin typeface="Times New Roman"/>
                  </a:rPr>
                  <a:t>Sw C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3062520" y="4526280"/>
              <a:ext cx="499680" cy="280440"/>
              <a:chOff x="3062520" y="4526280"/>
              <a:chExt cx="499680" cy="2804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3062520" y="4526280"/>
                <a:ext cx="225000" cy="280440"/>
                <a:chOff x="3062520" y="4526280"/>
                <a:chExt cx="225000" cy="28044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062520" y="471348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062520" y="461952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174840" y="47134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174840" y="45262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183480" y="454392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3962880" y="4526280"/>
              <a:ext cx="499680" cy="280440"/>
              <a:chOff x="3962880" y="4526280"/>
              <a:chExt cx="499680" cy="28044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3962880" y="4526280"/>
                <a:ext cx="225000" cy="280440"/>
                <a:chOff x="3962880" y="4526280"/>
                <a:chExt cx="225000" cy="2804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962880" y="471348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962880" y="461952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075200" y="47134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075200" y="45262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4083840" y="454392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637880" y="4526280"/>
              <a:ext cx="443880" cy="280440"/>
              <a:chOff x="4637880" y="4526280"/>
              <a:chExt cx="443880" cy="28044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4637880" y="4526280"/>
                <a:ext cx="225000" cy="280440"/>
                <a:chOff x="4637880" y="4526280"/>
                <a:chExt cx="225000" cy="2804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4637880" y="471348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637880" y="461952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750200" y="47134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750200" y="45262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4766760" y="4543920"/>
                <a:ext cx="31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5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5313240" y="4526280"/>
              <a:ext cx="499320" cy="280440"/>
              <a:chOff x="5313240" y="4526280"/>
              <a:chExt cx="499320" cy="280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5313240" y="4526280"/>
                <a:ext cx="225000" cy="280440"/>
                <a:chOff x="5313240" y="4526280"/>
                <a:chExt cx="225000" cy="2804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313240" y="471348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313240" y="461952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425560" y="47134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425560" y="4526280"/>
                  <a:ext cx="0" cy="9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5433840" y="454392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6036840" y="4210920"/>
              <a:ext cx="74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low 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41880" y="5738040"/>
              <a:ext cx="70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ast 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4523400" y="2970720"/>
              <a:ext cx="455040" cy="290880"/>
              <a:chOff x="4523400" y="2970720"/>
              <a:chExt cx="455040" cy="2908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4637520" y="3168000"/>
                <a:ext cx="225000" cy="93600"/>
                <a:chOff x="4637520" y="3168000"/>
                <a:chExt cx="225000" cy="936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4750560" y="3168000"/>
                  <a:ext cx="0" cy="9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H="1">
                  <a:off x="4637520" y="3168000"/>
                  <a:ext cx="225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4523400" y="29707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5369400" y="3776760"/>
              <a:ext cx="444600" cy="374400"/>
              <a:chOff x="5369400" y="3776760"/>
              <a:chExt cx="444600" cy="37440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5369400" y="3776760"/>
                <a:ext cx="112320" cy="374400"/>
                <a:chOff x="5369400" y="3776760"/>
                <a:chExt cx="112320" cy="37440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5369400" y="3821400"/>
                  <a:ext cx="112320" cy="282240"/>
                  <a:chOff x="5369400" y="3821400"/>
                  <a:chExt cx="112320" cy="28224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 flipV="1">
                    <a:off x="5369400" y="3821400"/>
                    <a:ext cx="5832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H="1" flipV="1">
                    <a:off x="5369400" y="40330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5369400" y="39859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flipV="1">
                    <a:off x="5369400" y="39394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5369400" y="389232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H="1" flipV="1">
                    <a:off x="5369400" y="38455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5423040" y="4079520"/>
                    <a:ext cx="5832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5" name=""/>
                <p:cNvSpPr/>
                <p:nvPr/>
              </p:nvSpPr>
              <p:spPr>
                <a:xfrm>
                  <a:off x="5425560" y="410472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425560" y="377676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5406120" y="382320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694400" y="3776760"/>
              <a:ext cx="444600" cy="374400"/>
              <a:chOff x="4694400" y="3776760"/>
              <a:chExt cx="444600" cy="37440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694400" y="3776760"/>
                <a:ext cx="112320" cy="374400"/>
                <a:chOff x="4694400" y="3776760"/>
                <a:chExt cx="112320" cy="37440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4694400" y="3821400"/>
                  <a:ext cx="112320" cy="282240"/>
                  <a:chOff x="4694400" y="3821400"/>
                  <a:chExt cx="112320" cy="28224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 flipV="1">
                    <a:off x="4694400" y="3821400"/>
                    <a:ext cx="5832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694400" y="40330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4694400" y="39859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 flipV="1">
                    <a:off x="4694400" y="39394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4694400" y="389232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flipV="1">
                    <a:off x="4694400" y="38455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V="1">
                    <a:off x="4748040" y="4079520"/>
                    <a:ext cx="5832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4750560" y="410472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750560" y="377676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4731120" y="382320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4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4019400" y="3776760"/>
              <a:ext cx="443880" cy="374400"/>
              <a:chOff x="4019400" y="3776760"/>
              <a:chExt cx="443880" cy="37440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4019400" y="3776760"/>
                <a:ext cx="112320" cy="374400"/>
                <a:chOff x="4019400" y="3776760"/>
                <a:chExt cx="112320" cy="37440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19400" y="3821400"/>
                  <a:ext cx="112320" cy="282240"/>
                  <a:chOff x="4019400" y="3821400"/>
                  <a:chExt cx="112320" cy="28224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flipV="1">
                    <a:off x="4019400" y="3821400"/>
                    <a:ext cx="5832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019400" y="40330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flipV="1">
                    <a:off x="4019400" y="39859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19400" y="393948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V="1">
                    <a:off x="4019400" y="389232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 flipV="1">
                    <a:off x="4019400" y="384552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V="1">
                    <a:off x="4073040" y="4079520"/>
                    <a:ext cx="5832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4075560" y="410472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075560" y="377676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4055400" y="382320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118680" y="3776760"/>
              <a:ext cx="444600" cy="374400"/>
              <a:chOff x="3118680" y="3776760"/>
              <a:chExt cx="444600" cy="3744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118680" y="3776760"/>
                <a:ext cx="113040" cy="374400"/>
                <a:chOff x="3118680" y="3776760"/>
                <a:chExt cx="113040" cy="37440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3118680" y="3821400"/>
                  <a:ext cx="113040" cy="282240"/>
                  <a:chOff x="3118680" y="3821400"/>
                  <a:chExt cx="113040" cy="28224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flipV="1">
                    <a:off x="3119040" y="3821400"/>
                    <a:ext cx="5868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H="1" flipV="1">
                    <a:off x="3118680" y="4033080"/>
                    <a:ext cx="11268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V="1">
                    <a:off x="3119040" y="3985920"/>
                    <a:ext cx="11268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 flipV="1">
                    <a:off x="3118680" y="3939480"/>
                    <a:ext cx="11268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V="1">
                    <a:off x="3119040" y="3892320"/>
                    <a:ext cx="11268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flipV="1">
                    <a:off x="3118680" y="3845520"/>
                    <a:ext cx="11268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V="1">
                    <a:off x="3172680" y="4079520"/>
                    <a:ext cx="5868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4" name=""/>
                <p:cNvSpPr/>
                <p:nvPr/>
              </p:nvSpPr>
              <p:spPr>
                <a:xfrm>
                  <a:off x="3175200" y="410472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175200" y="377676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6" name=""/>
              <p:cNvSpPr/>
              <p:nvPr/>
            </p:nvSpPr>
            <p:spPr>
              <a:xfrm>
                <a:off x="3155400" y="382320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 flipV="1">
              <a:off x="4750560" y="36831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425560" y="36831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175560" y="36831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075200" y="326160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4750560" y="326160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5425560" y="326160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4075200" y="4807440"/>
              <a:ext cx="0" cy="18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106360" y="4619880"/>
              <a:ext cx="443520" cy="374400"/>
              <a:chOff x="2106360" y="4619880"/>
              <a:chExt cx="443520" cy="3744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2106360" y="4619880"/>
                <a:ext cx="112320" cy="374400"/>
                <a:chOff x="2106360" y="4619880"/>
                <a:chExt cx="112320" cy="374400"/>
              </a:xfrm>
            </p:grpSpPr>
            <p:grpSp>
              <p:nvGrpSpPr>
                <p:cNvPr id="316" name=""/>
                <p:cNvGrpSpPr/>
                <p:nvPr/>
              </p:nvGrpSpPr>
              <p:grpSpPr>
                <a:xfrm>
                  <a:off x="2106360" y="4664520"/>
                  <a:ext cx="112320" cy="282240"/>
                  <a:chOff x="2106360" y="4664520"/>
                  <a:chExt cx="112320" cy="282240"/>
                </a:xfrm>
              </p:grpSpPr>
              <p:sp>
                <p:nvSpPr>
                  <p:cNvPr id="317" name=""/>
                  <p:cNvSpPr/>
                  <p:nvPr/>
                </p:nvSpPr>
                <p:spPr>
                  <a:xfrm flipV="1">
                    <a:off x="2106360" y="4664520"/>
                    <a:ext cx="58320" cy="2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 flipV="1">
                    <a:off x="2106360" y="487620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V="1">
                    <a:off x="2106360" y="482904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 flipV="1">
                    <a:off x="2106360" y="478260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V="1">
                    <a:off x="2106360" y="4735440"/>
                    <a:ext cx="112320" cy="46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flipV="1">
                    <a:off x="2106360" y="4688640"/>
                    <a:ext cx="1123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V="1">
                    <a:off x="2160000" y="4922640"/>
                    <a:ext cx="58320" cy="2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4" name=""/>
                <p:cNvSpPr/>
                <p:nvPr/>
              </p:nvSpPr>
              <p:spPr>
                <a:xfrm>
                  <a:off x="2162520" y="4947840"/>
                  <a:ext cx="0" cy="4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162520" y="4619880"/>
                  <a:ext cx="0" cy="46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2142000" y="466632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 flipH="1">
              <a:off x="4075200" y="3261600"/>
              <a:ext cx="135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22480" y="3238200"/>
              <a:ext cx="55800" cy="46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1037520" y="4338720"/>
              <a:ext cx="0" cy="234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037520" y="4994640"/>
              <a:ext cx="0" cy="18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63D-581B-4A60-B184-E6CE24163E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ariable gain preamp for PMT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mirror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tioed mirrors on input. Output currents summed and integrated on capacitor (10 p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adjusted by turning on/off scaled mirrors (3 bit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r input impedance (500 ), similar decay time constant (200 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e following st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57280" y="3047400"/>
            <a:ext cx="5842440" cy="3644280"/>
            <a:chOff x="557280" y="3047400"/>
            <a:chExt cx="5842440" cy="3644280"/>
          </a:xfrm>
        </p:grpSpPr>
        <p:grpSp>
          <p:nvGrpSpPr>
            <p:cNvPr id="336" name=""/>
            <p:cNvGrpSpPr/>
            <p:nvPr/>
          </p:nvGrpSpPr>
          <p:grpSpPr>
            <a:xfrm>
              <a:off x="557280" y="4748760"/>
              <a:ext cx="574200" cy="447120"/>
              <a:chOff x="557280" y="4748760"/>
              <a:chExt cx="574200" cy="44712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968760" y="4748760"/>
                <a:ext cx="162720" cy="447120"/>
                <a:chOff x="968760" y="4748760"/>
                <a:chExt cx="162720" cy="447120"/>
              </a:xfrm>
            </p:grpSpPr>
            <p:grpSp>
              <p:nvGrpSpPr>
                <p:cNvPr id="338" name=""/>
                <p:cNvGrpSpPr/>
                <p:nvPr/>
              </p:nvGrpSpPr>
              <p:grpSpPr>
                <a:xfrm>
                  <a:off x="968760" y="4848120"/>
                  <a:ext cx="162720" cy="248400"/>
                  <a:chOff x="968760" y="4848120"/>
                  <a:chExt cx="162720" cy="24840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968760" y="4947480"/>
                    <a:ext cx="162720" cy="149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968760" y="4848120"/>
                    <a:ext cx="162720" cy="149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 flipV="1">
                  <a:off x="1050120" y="5096520"/>
                  <a:ext cx="0" cy="993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1050120" y="4748760"/>
                  <a:ext cx="0" cy="993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" name=""/>
              <p:cNvSpPr/>
              <p:nvPr/>
            </p:nvSpPr>
            <p:spPr>
              <a:xfrm flipV="1">
                <a:off x="887400" y="4773600"/>
                <a:ext cx="0" cy="397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57280" y="4832280"/>
                <a:ext cx="406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I 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2108160" y="37544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836720" y="4002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08160" y="375444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836000" y="3655080"/>
              <a:ext cx="271800" cy="198720"/>
              <a:chOff x="1836000" y="3655080"/>
              <a:chExt cx="271800" cy="198720"/>
            </a:xfrm>
          </p:grpSpPr>
          <p:sp>
            <p:nvSpPr>
              <p:cNvPr id="349" name=""/>
              <p:cNvSpPr/>
              <p:nvPr/>
            </p:nvSpPr>
            <p:spPr>
              <a:xfrm>
                <a:off x="1945080" y="36550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999440" y="3754440"/>
                <a:ext cx="10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99440" y="36550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836000" y="3853800"/>
                <a:ext cx="1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36000" y="3655080"/>
                <a:ext cx="1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2379600" y="3655080"/>
              <a:ext cx="271440" cy="198720"/>
              <a:chOff x="2379600" y="3655080"/>
              <a:chExt cx="271440" cy="19872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2542320" y="38538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2542320" y="36550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488320" y="36550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2542320" y="36550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2379600" y="3753360"/>
                <a:ext cx="1087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 flipH="1">
              <a:off x="2651040" y="4997520"/>
              <a:ext cx="28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81160" y="372960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36720" y="385380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09720" y="3978360"/>
              <a:ext cx="5400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4547160" y="5494320"/>
              <a:ext cx="273600" cy="199080"/>
              <a:chOff x="4547160" y="5494320"/>
              <a:chExt cx="273600" cy="199080"/>
            </a:xfrm>
          </p:grpSpPr>
          <p:sp>
            <p:nvSpPr>
              <p:cNvPr id="365" name=""/>
              <p:cNvSpPr/>
              <p:nvPr/>
            </p:nvSpPr>
            <p:spPr>
              <a:xfrm flipH="1">
                <a:off x="4658040" y="5592960"/>
                <a:ext cx="1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658040" y="5494680"/>
                <a:ext cx="0" cy="19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4547160" y="5643720"/>
                <a:ext cx="11052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flipV="1">
                <a:off x="4549320" y="5494320"/>
                <a:ext cx="10620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108160" y="42516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728000" y="4500360"/>
              <a:ext cx="38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08160" y="425160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1836000" y="4151880"/>
              <a:ext cx="271800" cy="198720"/>
              <a:chOff x="1836000" y="4151880"/>
              <a:chExt cx="271800" cy="198720"/>
            </a:xfrm>
          </p:grpSpPr>
          <p:sp>
            <p:nvSpPr>
              <p:cNvPr id="373" name=""/>
              <p:cNvSpPr/>
              <p:nvPr/>
            </p:nvSpPr>
            <p:spPr>
              <a:xfrm>
                <a:off x="194508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999440" y="4251240"/>
                <a:ext cx="10836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99944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836000" y="4350600"/>
                <a:ext cx="1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836000" y="4151880"/>
                <a:ext cx="10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2379600" y="4151880"/>
              <a:ext cx="271440" cy="198720"/>
              <a:chOff x="2379600" y="4151880"/>
              <a:chExt cx="271440" cy="198720"/>
            </a:xfrm>
          </p:grpSpPr>
          <p:sp>
            <p:nvSpPr>
              <p:cNvPr id="379" name=""/>
              <p:cNvSpPr/>
              <p:nvPr/>
            </p:nvSpPr>
            <p:spPr>
              <a:xfrm flipH="1">
                <a:off x="2542320" y="43506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2542320" y="41518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24883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25423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2379600" y="4249440"/>
                <a:ext cx="108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2081160" y="42267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51040" y="4350960"/>
              <a:ext cx="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09720" y="4475160"/>
              <a:ext cx="5400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5092920" y="5592960"/>
              <a:ext cx="16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57800" y="5494680"/>
              <a:ext cx="0" cy="19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256000" y="5494680"/>
              <a:ext cx="11052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57800" y="5643720"/>
              <a:ext cx="10872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23640" y="55940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4552200" y="53452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24840" y="5320800"/>
              <a:ext cx="543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23640" y="5345280"/>
              <a:ext cx="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36720" y="435096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2108160" y="4002840"/>
              <a:ext cx="271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81160" y="3978360"/>
              <a:ext cx="543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51040" y="385380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357360" y="4151880"/>
              <a:ext cx="271440" cy="198720"/>
              <a:chOff x="3357360" y="4151880"/>
              <a:chExt cx="271440" cy="198720"/>
            </a:xfrm>
          </p:grpSpPr>
          <p:sp>
            <p:nvSpPr>
              <p:cNvPr id="400" name=""/>
              <p:cNvSpPr/>
              <p:nvPr/>
            </p:nvSpPr>
            <p:spPr>
              <a:xfrm flipH="1">
                <a:off x="3520080" y="43506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3520080" y="41518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346608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352008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3357360" y="4250160"/>
                <a:ext cx="1087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3357360" y="4649400"/>
              <a:ext cx="271440" cy="198720"/>
              <a:chOff x="3357360" y="4649400"/>
              <a:chExt cx="271440" cy="198720"/>
            </a:xfrm>
          </p:grpSpPr>
          <p:sp>
            <p:nvSpPr>
              <p:cNvPr id="406" name=""/>
              <p:cNvSpPr/>
              <p:nvPr/>
            </p:nvSpPr>
            <p:spPr>
              <a:xfrm flipH="1">
                <a:off x="3520080" y="484812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3520080" y="46494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46608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352008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3357360" y="4746960"/>
                <a:ext cx="108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3628800" y="435096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4280400" y="4151880"/>
              <a:ext cx="271440" cy="198720"/>
              <a:chOff x="4280400" y="4151880"/>
              <a:chExt cx="271440" cy="198720"/>
            </a:xfrm>
          </p:grpSpPr>
          <p:sp>
            <p:nvSpPr>
              <p:cNvPr id="413" name=""/>
              <p:cNvSpPr/>
              <p:nvPr/>
            </p:nvSpPr>
            <p:spPr>
              <a:xfrm flipH="1">
                <a:off x="4443120" y="43506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4443120" y="41518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43891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44431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4280400" y="4250160"/>
                <a:ext cx="1087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4280400" y="4649400"/>
              <a:ext cx="271440" cy="198720"/>
              <a:chOff x="4280400" y="4649400"/>
              <a:chExt cx="271440" cy="19872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4443120" y="484812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4443120" y="46494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438912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444312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280400" y="4746960"/>
                <a:ext cx="108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4552200" y="435096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5203800" y="4151880"/>
              <a:ext cx="271440" cy="198720"/>
              <a:chOff x="5203800" y="4151880"/>
              <a:chExt cx="271440" cy="198720"/>
            </a:xfrm>
          </p:grpSpPr>
          <p:sp>
            <p:nvSpPr>
              <p:cNvPr id="426" name=""/>
              <p:cNvSpPr/>
              <p:nvPr/>
            </p:nvSpPr>
            <p:spPr>
              <a:xfrm flipH="1">
                <a:off x="5366520" y="43506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5366520" y="415188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53125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5366520" y="415188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5203800" y="4250160"/>
                <a:ext cx="1087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5203800" y="4649400"/>
              <a:ext cx="271440" cy="198720"/>
              <a:chOff x="5203800" y="4649400"/>
              <a:chExt cx="271440" cy="198720"/>
            </a:xfrm>
          </p:grpSpPr>
          <p:sp>
            <p:nvSpPr>
              <p:cNvPr id="432" name=""/>
              <p:cNvSpPr/>
              <p:nvPr/>
            </p:nvSpPr>
            <p:spPr>
              <a:xfrm flipH="1">
                <a:off x="5366520" y="484812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5366520" y="4649400"/>
                <a:ext cx="10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531252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5366520" y="4649400"/>
                <a:ext cx="0" cy="19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5203800" y="4746960"/>
                <a:ext cx="108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5475240" y="4350960"/>
              <a:ext cx="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2108160" y="4500360"/>
              <a:ext cx="271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81160" y="44751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2976840" y="4201920"/>
              <a:ext cx="373320" cy="49680"/>
              <a:chOff x="2976840" y="4201920"/>
              <a:chExt cx="373320" cy="49680"/>
            </a:xfrm>
          </p:grpSpPr>
          <p:sp>
            <p:nvSpPr>
              <p:cNvPr id="441" name=""/>
              <p:cNvSpPr/>
              <p:nvPr/>
            </p:nvSpPr>
            <p:spPr>
              <a:xfrm flipV="1">
                <a:off x="3083760" y="4201920"/>
                <a:ext cx="1598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2976840" y="4251600"/>
                <a:ext cx="1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243600" y="4251600"/>
                <a:ext cx="1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3900960" y="4201920"/>
              <a:ext cx="372960" cy="49680"/>
              <a:chOff x="3900960" y="4201920"/>
              <a:chExt cx="372960" cy="49680"/>
            </a:xfrm>
          </p:grpSpPr>
          <p:sp>
            <p:nvSpPr>
              <p:cNvPr id="445" name=""/>
              <p:cNvSpPr/>
              <p:nvPr/>
            </p:nvSpPr>
            <p:spPr>
              <a:xfrm flipV="1">
                <a:off x="4007520" y="4201920"/>
                <a:ext cx="1598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3900960" y="42516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167720" y="42516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4824000" y="4201920"/>
              <a:ext cx="372960" cy="49680"/>
              <a:chOff x="4824000" y="4201920"/>
              <a:chExt cx="372960" cy="49680"/>
            </a:xfrm>
          </p:grpSpPr>
          <p:sp>
            <p:nvSpPr>
              <p:cNvPr id="449" name=""/>
              <p:cNvSpPr/>
              <p:nvPr/>
            </p:nvSpPr>
            <p:spPr>
              <a:xfrm flipV="1">
                <a:off x="4930560" y="4201920"/>
                <a:ext cx="1598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4824000" y="42516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090760" y="42516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976840" y="4698720"/>
              <a:ext cx="373320" cy="49680"/>
              <a:chOff x="2976840" y="4698720"/>
              <a:chExt cx="373320" cy="49680"/>
            </a:xfrm>
          </p:grpSpPr>
          <p:sp>
            <p:nvSpPr>
              <p:cNvPr id="453" name=""/>
              <p:cNvSpPr/>
              <p:nvPr/>
            </p:nvSpPr>
            <p:spPr>
              <a:xfrm flipV="1">
                <a:off x="3083760" y="4698720"/>
                <a:ext cx="1598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2976840" y="4748400"/>
                <a:ext cx="1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243600" y="4748400"/>
                <a:ext cx="10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3900960" y="4698720"/>
              <a:ext cx="372960" cy="49680"/>
              <a:chOff x="3900960" y="4698720"/>
              <a:chExt cx="372960" cy="49680"/>
            </a:xfrm>
          </p:grpSpPr>
          <p:sp>
            <p:nvSpPr>
              <p:cNvPr id="457" name=""/>
              <p:cNvSpPr/>
              <p:nvPr/>
            </p:nvSpPr>
            <p:spPr>
              <a:xfrm flipV="1">
                <a:off x="4007520" y="4698720"/>
                <a:ext cx="1598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3900960" y="47484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167720" y="47484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4824000" y="4698720"/>
              <a:ext cx="372960" cy="49680"/>
              <a:chOff x="4824000" y="4698720"/>
              <a:chExt cx="372960" cy="49680"/>
            </a:xfrm>
          </p:grpSpPr>
          <p:sp>
            <p:nvSpPr>
              <p:cNvPr id="461" name=""/>
              <p:cNvSpPr/>
              <p:nvPr/>
            </p:nvSpPr>
            <p:spPr>
              <a:xfrm flipV="1">
                <a:off x="4930560" y="4698720"/>
                <a:ext cx="15984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4824000" y="47484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90760" y="4748400"/>
                <a:ext cx="10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2977200" y="450036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50200" y="4475160"/>
              <a:ext cx="5400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77200" y="4002840"/>
              <a:ext cx="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50200" y="3978360"/>
              <a:ext cx="5400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00600" y="450036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73240" y="44751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00600" y="4002840"/>
              <a:ext cx="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73240" y="3978360"/>
              <a:ext cx="543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23640" y="4500360"/>
              <a:ext cx="0" cy="24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23640" y="4002840"/>
              <a:ext cx="0" cy="24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28800" y="484848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52200" y="4848480"/>
              <a:ext cx="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75240" y="484848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01800" y="4972680"/>
              <a:ext cx="5400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24840" y="497268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48240" y="497268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6018480" y="4500360"/>
              <a:ext cx="0" cy="10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6018480" y="3455640"/>
              <a:ext cx="720" cy="64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991120" y="5320800"/>
              <a:ext cx="54360" cy="49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5909760" y="5544360"/>
              <a:ext cx="487080" cy="297720"/>
              <a:chOff x="5909760" y="5544360"/>
              <a:chExt cx="487080" cy="29772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5909760" y="5544360"/>
                <a:ext cx="217080" cy="297720"/>
                <a:chOff x="5909760" y="5544360"/>
                <a:chExt cx="217080" cy="29772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5909760" y="5743080"/>
                  <a:ext cx="21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909760" y="5643360"/>
                  <a:ext cx="21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018120" y="5743080"/>
                  <a:ext cx="0" cy="9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018120" y="5544360"/>
                  <a:ext cx="0" cy="9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>
                <a:off x="6018120" y="555984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4552200" y="569340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66880" y="569340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366880" y="5345280"/>
              <a:ext cx="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366880" y="5345280"/>
              <a:ext cx="6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5963760" y="4102560"/>
              <a:ext cx="108720" cy="397080"/>
              <a:chOff x="5963760" y="4102560"/>
              <a:chExt cx="108720" cy="39708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5963760" y="4150080"/>
                <a:ext cx="108720" cy="299520"/>
                <a:chOff x="5963760" y="4150080"/>
                <a:chExt cx="108720" cy="299520"/>
              </a:xfrm>
            </p:grpSpPr>
            <p:sp>
              <p:nvSpPr>
                <p:cNvPr id="496" name=""/>
                <p:cNvSpPr/>
                <p:nvPr/>
              </p:nvSpPr>
              <p:spPr>
                <a:xfrm flipV="1">
                  <a:off x="5964120" y="4150080"/>
                  <a:ext cx="56520" cy="2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5963760" y="437472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5964120" y="4324680"/>
                  <a:ext cx="108360" cy="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5963760" y="427536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V="1">
                  <a:off x="5964120" y="422568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 flipV="1">
                  <a:off x="5963760" y="4175640"/>
                  <a:ext cx="108360" cy="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V="1">
                  <a:off x="6015960" y="4424040"/>
                  <a:ext cx="56520" cy="2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6018120" y="4450320"/>
                <a:ext cx="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018120" y="4102560"/>
                <a:ext cx="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2017080" y="3047400"/>
              <a:ext cx="455040" cy="408240"/>
              <a:chOff x="2017080" y="3047400"/>
              <a:chExt cx="455040" cy="40824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148120" y="3257280"/>
                <a:ext cx="193320" cy="198360"/>
                <a:chOff x="2148120" y="3257280"/>
                <a:chExt cx="193320" cy="198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244960" y="325728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>
                  <a:off x="2148120" y="3257280"/>
                  <a:ext cx="193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>
                <a:off x="2017080" y="304740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1836720" y="34560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651040" y="34560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5789880" y="3047400"/>
              <a:ext cx="455040" cy="408240"/>
              <a:chOff x="5789880" y="3047400"/>
              <a:chExt cx="455040" cy="40824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5936760" y="3257280"/>
                <a:ext cx="161640" cy="198360"/>
                <a:chOff x="5936760" y="3257280"/>
                <a:chExt cx="161640" cy="1983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6017760" y="325728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>
                  <a:off x="5936760" y="3257280"/>
                  <a:ext cx="161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5789880" y="304740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 flipV="1">
              <a:off x="4552200" y="3455640"/>
              <a:ext cx="0" cy="69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4321440" y="3047400"/>
              <a:ext cx="455040" cy="408240"/>
              <a:chOff x="4321440" y="3047400"/>
              <a:chExt cx="455040" cy="408240"/>
            </a:xfrm>
          </p:grpSpPr>
          <p:grpSp>
            <p:nvGrpSpPr>
              <p:cNvPr id="519" name=""/>
              <p:cNvGrpSpPr/>
              <p:nvPr/>
            </p:nvGrpSpPr>
            <p:grpSpPr>
              <a:xfrm>
                <a:off x="4469760" y="3257280"/>
                <a:ext cx="161640" cy="198360"/>
                <a:chOff x="4469760" y="3257280"/>
                <a:chExt cx="161640" cy="19836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550760" y="3257280"/>
                  <a:ext cx="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4469760" y="3257280"/>
                  <a:ext cx="161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>
                <a:off x="4321440" y="304740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 flipV="1">
              <a:off x="5475240" y="3455640"/>
              <a:ext cx="0" cy="69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3628800" y="3455640"/>
              <a:ext cx="0" cy="69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3628440" y="3456000"/>
              <a:ext cx="18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524840" y="34311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1836720" y="3456000"/>
              <a:ext cx="81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16880" y="343116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5855040" y="6041880"/>
              <a:ext cx="274680" cy="199440"/>
              <a:chOff x="5855040" y="6041880"/>
              <a:chExt cx="274680" cy="199440"/>
            </a:xfrm>
          </p:grpSpPr>
          <p:sp>
            <p:nvSpPr>
              <p:cNvPr id="530" name=""/>
              <p:cNvSpPr/>
              <p:nvPr/>
            </p:nvSpPr>
            <p:spPr>
              <a:xfrm>
                <a:off x="5909400" y="6141240"/>
                <a:ext cx="21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5855040" y="6141240"/>
                <a:ext cx="5508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5964480" y="6141240"/>
                <a:ext cx="5508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6074280" y="6141240"/>
                <a:ext cx="5544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6018120" y="6041880"/>
                <a:ext cx="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4752720" y="6290280"/>
              <a:ext cx="412200" cy="401400"/>
              <a:chOff x="4752720" y="6290280"/>
              <a:chExt cx="412200" cy="401400"/>
            </a:xfrm>
          </p:grpSpPr>
          <p:sp>
            <p:nvSpPr>
              <p:cNvPr id="536" name=""/>
              <p:cNvSpPr/>
              <p:nvPr/>
            </p:nvSpPr>
            <p:spPr>
              <a:xfrm>
                <a:off x="4752720" y="644544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4851360" y="6290280"/>
                <a:ext cx="217080" cy="198720"/>
                <a:chOff x="4851360" y="6290280"/>
                <a:chExt cx="217080" cy="198720"/>
              </a:xfrm>
            </p:grpSpPr>
            <p:sp>
              <p:nvSpPr>
                <p:cNvPr id="538" name=""/>
                <p:cNvSpPr/>
                <p:nvPr/>
              </p:nvSpPr>
              <p:spPr>
                <a:xfrm flipH="1">
                  <a:off x="4851360" y="6489000"/>
                  <a:ext cx="217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V="1">
                  <a:off x="4957920" y="6290280"/>
                  <a:ext cx="0" cy="198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0" name=""/>
            <p:cNvSpPr/>
            <p:nvPr/>
          </p:nvSpPr>
          <p:spPr>
            <a:xfrm>
              <a:off x="6018480" y="58428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552200" y="6290280"/>
              <a:ext cx="81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32000" y="626544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552200" y="619092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66880" y="6190920"/>
              <a:ext cx="0" cy="9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4497480" y="5793120"/>
              <a:ext cx="404640" cy="397440"/>
              <a:chOff x="4497480" y="5793120"/>
              <a:chExt cx="404640" cy="39744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4497480" y="5793120"/>
                <a:ext cx="108720" cy="397440"/>
                <a:chOff x="4497480" y="5793120"/>
                <a:chExt cx="108720" cy="397440"/>
              </a:xfrm>
            </p:grpSpPr>
            <p:grpSp>
              <p:nvGrpSpPr>
                <p:cNvPr id="547" name=""/>
                <p:cNvGrpSpPr/>
                <p:nvPr/>
              </p:nvGrpSpPr>
              <p:grpSpPr>
                <a:xfrm>
                  <a:off x="4497480" y="5840640"/>
                  <a:ext cx="108720" cy="299880"/>
                  <a:chOff x="4497480" y="5840640"/>
                  <a:chExt cx="108720" cy="29988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 flipV="1">
                    <a:off x="4497840" y="5840640"/>
                    <a:ext cx="56520" cy="25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H="1" flipV="1">
                    <a:off x="4497480" y="6065640"/>
                    <a:ext cx="108360" cy="49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V="1">
                    <a:off x="4497840" y="6015600"/>
                    <a:ext cx="108360" cy="4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 flipV="1">
                    <a:off x="4497480" y="5965920"/>
                    <a:ext cx="108360" cy="49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V="1">
                    <a:off x="4497840" y="5916240"/>
                    <a:ext cx="108360" cy="49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H="1" flipV="1">
                    <a:off x="4497480" y="5866200"/>
                    <a:ext cx="108360" cy="49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V="1">
                    <a:off x="4549680" y="6114960"/>
                    <a:ext cx="56520" cy="25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5" name=""/>
                <p:cNvSpPr/>
                <p:nvPr/>
              </p:nvSpPr>
              <p:spPr>
                <a:xfrm>
                  <a:off x="4551840" y="6141240"/>
                  <a:ext cx="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551840" y="5793120"/>
                  <a:ext cx="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4558320" y="5849280"/>
                <a:ext cx="34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2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5312160" y="5793120"/>
              <a:ext cx="108720" cy="397440"/>
              <a:chOff x="5312160" y="5793120"/>
              <a:chExt cx="108720" cy="39744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5312160" y="5840640"/>
                <a:ext cx="108720" cy="299880"/>
                <a:chOff x="5312160" y="5840640"/>
                <a:chExt cx="108720" cy="299880"/>
              </a:xfrm>
            </p:grpSpPr>
            <p:sp>
              <p:nvSpPr>
                <p:cNvPr id="560" name=""/>
                <p:cNvSpPr/>
                <p:nvPr/>
              </p:nvSpPr>
              <p:spPr>
                <a:xfrm flipV="1">
                  <a:off x="5312520" y="5840640"/>
                  <a:ext cx="56520" cy="2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 flipV="1">
                  <a:off x="5312160" y="606564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V="1">
                  <a:off x="5312520" y="6015600"/>
                  <a:ext cx="108360" cy="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H="1" flipV="1">
                  <a:off x="5312160" y="596592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V="1">
                  <a:off x="5312520" y="5916240"/>
                  <a:ext cx="108360" cy="49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 flipV="1">
                  <a:off x="5312160" y="5866200"/>
                  <a:ext cx="108360" cy="4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V="1">
                  <a:off x="5364360" y="6114960"/>
                  <a:ext cx="56520" cy="2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5366520" y="6141240"/>
                <a:ext cx="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366520" y="5793120"/>
                <a:ext cx="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5371200" y="5849280"/>
              <a:ext cx="34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91840" y="4158720"/>
              <a:ext cx="40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0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64600" y="39999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64600" y="449604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87640" y="39999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87640" y="449604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12120" y="399996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12120" y="4496040"/>
              <a:ext cx="47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md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96280" y="556920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23520" y="358956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85800" y="358956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04080" y="408600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36560" y="408600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536640" y="407664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514680" y="458496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60400" y="407664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36640" y="458496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82720" y="407664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61120" y="4584960"/>
              <a:ext cx="42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00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8µ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1213200" y="5395320"/>
              <a:ext cx="274320" cy="199800"/>
              <a:chOff x="1213200" y="5395320"/>
              <a:chExt cx="274320" cy="199800"/>
            </a:xfrm>
          </p:grpSpPr>
          <p:sp>
            <p:nvSpPr>
              <p:cNvPr id="589" name=""/>
              <p:cNvSpPr/>
              <p:nvPr/>
            </p:nvSpPr>
            <p:spPr>
              <a:xfrm>
                <a:off x="1267560" y="5494680"/>
                <a:ext cx="2170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1213200" y="5494680"/>
                <a:ext cx="55080" cy="10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1322640" y="5494680"/>
                <a:ext cx="55080" cy="10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1432440" y="5494680"/>
                <a:ext cx="55080" cy="1004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1376280" y="5395320"/>
                <a:ext cx="0" cy="99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887040" y="5395320"/>
              <a:ext cx="274320" cy="199440"/>
              <a:chOff x="887040" y="5395320"/>
              <a:chExt cx="274320" cy="199440"/>
            </a:xfrm>
          </p:grpSpPr>
          <p:sp>
            <p:nvSpPr>
              <p:cNvPr id="595" name=""/>
              <p:cNvSpPr/>
              <p:nvPr/>
            </p:nvSpPr>
            <p:spPr>
              <a:xfrm flipH="1">
                <a:off x="887040" y="5494680"/>
                <a:ext cx="55080" cy="100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996480" y="5494680"/>
                <a:ext cx="55080" cy="100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1106280" y="5494680"/>
                <a:ext cx="55080" cy="100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941400" y="5494680"/>
                <a:ext cx="21708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050120" y="5395320"/>
                <a:ext cx="0" cy="99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 flipV="1">
              <a:off x="1376280" y="5096880"/>
              <a:ext cx="0" cy="298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1376280" y="4500000"/>
              <a:ext cx="0" cy="348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50480" y="4500360"/>
              <a:ext cx="6516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349280" y="4475160"/>
              <a:ext cx="54360" cy="49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1267560" y="4816080"/>
              <a:ext cx="649080" cy="297720"/>
              <a:chOff x="1267560" y="4816080"/>
              <a:chExt cx="649080" cy="29772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1267560" y="4816080"/>
                <a:ext cx="216720" cy="297720"/>
                <a:chOff x="1267560" y="4816080"/>
                <a:chExt cx="216720" cy="29772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1267560" y="5014800"/>
                  <a:ext cx="2167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67560" y="4915080"/>
                  <a:ext cx="21672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375560" y="5014800"/>
                  <a:ext cx="0" cy="990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375560" y="4816080"/>
                  <a:ext cx="0" cy="9900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1350360" y="482616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C 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 flipV="1">
              <a:off x="1050480" y="4500360"/>
              <a:ext cx="0" cy="248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1050480" y="5196240"/>
              <a:ext cx="0" cy="19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18480" y="499752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91120" y="4972680"/>
              <a:ext cx="54360" cy="4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C18-F588-4159-AFA9-8B52DDE1B5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ast and slow shapers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ple CR RC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ow shaper : t = 100 ns  G ~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shaper : t = 10 ns  G ~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current taken from integrating capacitor -&gt; area re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730800" y="3199320"/>
            <a:ext cx="6353280" cy="2493000"/>
            <a:chOff x="730800" y="3199320"/>
            <a:chExt cx="6353280" cy="2493000"/>
          </a:xfrm>
        </p:grpSpPr>
        <p:sp>
          <p:nvSpPr>
            <p:cNvPr id="620" name=""/>
            <p:cNvSpPr/>
            <p:nvPr/>
          </p:nvSpPr>
          <p:spPr>
            <a:xfrm>
              <a:off x="1293480" y="3438000"/>
              <a:ext cx="1625040" cy="165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1061280" y="4082040"/>
              <a:ext cx="1508760" cy="367920"/>
              <a:chOff x="1061280" y="4082040"/>
              <a:chExt cx="1508760" cy="367920"/>
            </a:xfrm>
          </p:grpSpPr>
          <p:sp>
            <p:nvSpPr>
              <p:cNvPr id="622" name=""/>
              <p:cNvSpPr/>
              <p:nvPr/>
            </p:nvSpPr>
            <p:spPr>
              <a:xfrm>
                <a:off x="1061280" y="4266000"/>
                <a:ext cx="46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105640" y="4266000"/>
                <a:ext cx="46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 flipV="1" rot="16200000">
                <a:off x="1630800" y="3975840"/>
                <a:ext cx="367920" cy="579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Preamp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4311720" y="4082040"/>
              <a:ext cx="1508400" cy="367920"/>
              <a:chOff x="4311720" y="4082040"/>
              <a:chExt cx="1508400" cy="367920"/>
            </a:xfrm>
          </p:grpSpPr>
          <p:sp>
            <p:nvSpPr>
              <p:cNvPr id="626" name=""/>
              <p:cNvSpPr/>
              <p:nvPr/>
            </p:nvSpPr>
            <p:spPr>
              <a:xfrm>
                <a:off x="4311720" y="4266000"/>
                <a:ext cx="46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356080" y="4266000"/>
                <a:ext cx="46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 rot="16200000">
                <a:off x="4880880" y="3975840"/>
                <a:ext cx="367920" cy="579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Slo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Shap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3267000" y="4726440"/>
              <a:ext cx="1508400" cy="367920"/>
              <a:chOff x="3267000" y="4726440"/>
              <a:chExt cx="1508400" cy="367920"/>
            </a:xfrm>
          </p:grpSpPr>
          <p:sp>
            <p:nvSpPr>
              <p:cNvPr id="630" name=""/>
              <p:cNvSpPr/>
              <p:nvPr/>
            </p:nvSpPr>
            <p:spPr>
              <a:xfrm>
                <a:off x="3267000" y="4910400"/>
                <a:ext cx="46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311360" y="4910400"/>
                <a:ext cx="46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 rot="16200000">
                <a:off x="3836160" y="4620240"/>
                <a:ext cx="367920" cy="579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Fa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Times New Roman"/>
                  </a:rPr>
                  <a:t>Shap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2454120" y="4450320"/>
              <a:ext cx="232200" cy="275760"/>
              <a:chOff x="2454120" y="4450320"/>
              <a:chExt cx="232200" cy="275760"/>
            </a:xfrm>
          </p:grpSpPr>
          <p:sp>
            <p:nvSpPr>
              <p:cNvPr id="634" name=""/>
              <p:cNvSpPr/>
              <p:nvPr/>
            </p:nvSpPr>
            <p:spPr>
              <a:xfrm>
                <a:off x="2454120" y="4634280"/>
                <a:ext cx="23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454120" y="4542120"/>
                <a:ext cx="23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570040" y="4634280"/>
                <a:ext cx="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570040" y="4450320"/>
                <a:ext cx="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2512080" y="3713760"/>
              <a:ext cx="115920" cy="367560"/>
              <a:chOff x="2512080" y="3713760"/>
              <a:chExt cx="115920" cy="36756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2512080" y="3757320"/>
                <a:ext cx="115920" cy="277920"/>
                <a:chOff x="2512080" y="3757320"/>
                <a:chExt cx="115920" cy="277920"/>
              </a:xfrm>
            </p:grpSpPr>
            <p:sp>
              <p:nvSpPr>
                <p:cNvPr id="640" name=""/>
                <p:cNvSpPr/>
                <p:nvPr/>
              </p:nvSpPr>
              <p:spPr>
                <a:xfrm flipV="1">
                  <a:off x="2512080" y="3757320"/>
                  <a:ext cx="60120" cy="2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 flipV="1">
                  <a:off x="2512080" y="3965400"/>
                  <a:ext cx="11592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 flipV="1">
                  <a:off x="2512080" y="3919320"/>
                  <a:ext cx="115920" cy="4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 flipH="1" flipV="1">
                  <a:off x="2512080" y="3873600"/>
                  <a:ext cx="11592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 flipV="1">
                  <a:off x="2512080" y="3827520"/>
                  <a:ext cx="11592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 flipV="1">
                  <a:off x="2512080" y="3781440"/>
                  <a:ext cx="115920" cy="4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V="1">
                  <a:off x="2567520" y="4011480"/>
                  <a:ext cx="60120" cy="2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2570040" y="403560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570040" y="371376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891680" y="3437640"/>
              <a:ext cx="348120" cy="183960"/>
              <a:chOff x="4891680" y="3437640"/>
              <a:chExt cx="348120" cy="183960"/>
            </a:xfrm>
          </p:grpSpPr>
          <p:sp>
            <p:nvSpPr>
              <p:cNvPr id="650" name=""/>
              <p:cNvSpPr/>
              <p:nvPr/>
            </p:nvSpPr>
            <p:spPr>
              <a:xfrm flipV="1">
                <a:off x="5123880" y="3437640"/>
                <a:ext cx="0" cy="18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5007600" y="3437640"/>
                <a:ext cx="0" cy="18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123880" y="3529800"/>
                <a:ext cx="11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891680" y="3529800"/>
                <a:ext cx="11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 flipH="1">
              <a:off x="2570040" y="4266000"/>
              <a:ext cx="46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3846960" y="4266000"/>
              <a:ext cx="46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5588280" y="3530160"/>
              <a:ext cx="0" cy="73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43560" y="3530160"/>
              <a:ext cx="3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43560" y="3898080"/>
              <a:ext cx="29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240160" y="3530160"/>
              <a:ext cx="3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98120" y="3898080"/>
              <a:ext cx="28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4543560" y="3530160"/>
              <a:ext cx="0" cy="73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4543560" y="4910400"/>
              <a:ext cx="0" cy="73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498840" y="5278680"/>
              <a:ext cx="3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498840" y="5646600"/>
              <a:ext cx="29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95440" y="5278680"/>
              <a:ext cx="34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253400" y="5646600"/>
              <a:ext cx="28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3498840" y="4910400"/>
              <a:ext cx="0" cy="73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2570400" y="4082040"/>
              <a:ext cx="0" cy="36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2570400" y="4910400"/>
              <a:ext cx="6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2570400" y="4726080"/>
              <a:ext cx="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775760" y="4910400"/>
              <a:ext cx="127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820480" y="4266000"/>
              <a:ext cx="23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41240" y="4243320"/>
              <a:ext cx="5796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514760" y="4243320"/>
              <a:ext cx="5760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559480" y="4243320"/>
              <a:ext cx="5760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514760" y="488736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470040" y="488736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470040" y="525564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14760" y="525564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514760" y="387504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559480" y="3875040"/>
              <a:ext cx="576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3019680" y="3978360"/>
              <a:ext cx="378720" cy="379080"/>
              <a:chOff x="3019680" y="3978360"/>
              <a:chExt cx="378720" cy="37908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3034440" y="4173480"/>
                <a:ext cx="347400" cy="183960"/>
                <a:chOff x="3034440" y="4173480"/>
                <a:chExt cx="347400" cy="183960"/>
              </a:xfrm>
            </p:grpSpPr>
            <p:sp>
              <p:nvSpPr>
                <p:cNvPr id="684" name=""/>
                <p:cNvSpPr/>
                <p:nvPr/>
              </p:nvSpPr>
              <p:spPr>
                <a:xfrm flipV="1">
                  <a:off x="3266280" y="4173480"/>
                  <a:ext cx="0" cy="18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3150000" y="4173480"/>
                  <a:ext cx="0" cy="18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266280" y="4265640"/>
                  <a:ext cx="11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034440" y="4265640"/>
                  <a:ext cx="115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8" name=""/>
              <p:cNvSpPr/>
              <p:nvPr/>
            </p:nvSpPr>
            <p:spPr>
              <a:xfrm>
                <a:off x="3019680" y="3978360"/>
                <a:ext cx="37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3382920" y="4023360"/>
              <a:ext cx="463680" cy="288360"/>
              <a:chOff x="3382920" y="4023360"/>
              <a:chExt cx="463680" cy="28836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3382920" y="4219560"/>
                <a:ext cx="463680" cy="92160"/>
                <a:chOff x="3382920" y="4219560"/>
                <a:chExt cx="463680" cy="92160"/>
              </a:xfrm>
            </p:grpSpPr>
            <p:grpSp>
              <p:nvGrpSpPr>
                <p:cNvPr id="691" name=""/>
                <p:cNvGrpSpPr/>
                <p:nvPr/>
              </p:nvGrpSpPr>
              <p:grpSpPr>
                <a:xfrm>
                  <a:off x="3438360" y="4219560"/>
                  <a:ext cx="349560" cy="92160"/>
                  <a:chOff x="3438360" y="4219560"/>
                  <a:chExt cx="349560" cy="9216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 flipH="1" flipV="1">
                    <a:off x="3438360" y="4263480"/>
                    <a:ext cx="3024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>
                    <a:off x="3700080" y="421992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 flipV="1">
                    <a:off x="3642480" y="4219560"/>
                    <a:ext cx="5760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H="1">
                    <a:off x="3584160" y="421992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 flipV="1">
                    <a:off x="3526200" y="421956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>
                    <a:off x="3468600" y="4219920"/>
                    <a:ext cx="5760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flipH="1" flipV="1">
                    <a:off x="3758040" y="4219560"/>
                    <a:ext cx="2988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9" name=""/>
                <p:cNvSpPr/>
                <p:nvPr/>
              </p:nvSpPr>
              <p:spPr>
                <a:xfrm>
                  <a:off x="3789000" y="4265640"/>
                  <a:ext cx="57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382920" y="4265640"/>
                  <a:ext cx="57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3411720" y="4023360"/>
                <a:ext cx="407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4907880" y="3242520"/>
              <a:ext cx="315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4830840" y="3656520"/>
              <a:ext cx="471960" cy="287280"/>
              <a:chOff x="4830840" y="3656520"/>
              <a:chExt cx="471960" cy="287280"/>
            </a:xfrm>
          </p:grpSpPr>
          <p:grpSp>
            <p:nvGrpSpPr>
              <p:cNvPr id="704" name=""/>
              <p:cNvGrpSpPr/>
              <p:nvPr/>
            </p:nvGrpSpPr>
            <p:grpSpPr>
              <a:xfrm>
                <a:off x="4833720" y="3851640"/>
                <a:ext cx="463320" cy="92160"/>
                <a:chOff x="4833720" y="3851640"/>
                <a:chExt cx="463320" cy="9216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4889160" y="3851640"/>
                  <a:ext cx="349560" cy="92160"/>
                  <a:chOff x="4889160" y="3851640"/>
                  <a:chExt cx="349560" cy="9216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 flipH="1" flipV="1">
                    <a:off x="4889160" y="3895920"/>
                    <a:ext cx="3024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flipH="1">
                    <a:off x="5150880" y="3851640"/>
                    <a:ext cx="579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 flipH="1" flipV="1">
                    <a:off x="5093280" y="3851640"/>
                    <a:ext cx="5760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 flipH="1">
                    <a:off x="5034960" y="3851640"/>
                    <a:ext cx="579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 flipH="1" flipV="1">
                    <a:off x="4977000" y="3851640"/>
                    <a:ext cx="5796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H="1">
                    <a:off x="4919400" y="3851640"/>
                    <a:ext cx="57600" cy="92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H="1" flipV="1">
                    <a:off x="5208840" y="3852000"/>
                    <a:ext cx="2988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3" name=""/>
                <p:cNvSpPr/>
                <p:nvPr/>
              </p:nvSpPr>
              <p:spPr>
                <a:xfrm>
                  <a:off x="5239440" y="3897720"/>
                  <a:ext cx="57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833720" y="3897720"/>
                  <a:ext cx="57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5" name=""/>
              <p:cNvSpPr/>
              <p:nvPr/>
            </p:nvSpPr>
            <p:spPr>
              <a:xfrm>
                <a:off x="4830840" y="3656520"/>
                <a:ext cx="47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3784680" y="5403960"/>
              <a:ext cx="471960" cy="288360"/>
              <a:chOff x="3784680" y="5403960"/>
              <a:chExt cx="471960" cy="288360"/>
            </a:xfrm>
          </p:grpSpPr>
          <p:grpSp>
            <p:nvGrpSpPr>
              <p:cNvPr id="717" name=""/>
              <p:cNvGrpSpPr/>
              <p:nvPr/>
            </p:nvGrpSpPr>
            <p:grpSpPr>
              <a:xfrm>
                <a:off x="3789000" y="5600160"/>
                <a:ext cx="463680" cy="92160"/>
                <a:chOff x="3789000" y="5600160"/>
                <a:chExt cx="463680" cy="92160"/>
              </a:xfrm>
            </p:grpSpPr>
            <p:grpSp>
              <p:nvGrpSpPr>
                <p:cNvPr id="718" name=""/>
                <p:cNvGrpSpPr/>
                <p:nvPr/>
              </p:nvGrpSpPr>
              <p:grpSpPr>
                <a:xfrm>
                  <a:off x="3844440" y="5600160"/>
                  <a:ext cx="349560" cy="92160"/>
                  <a:chOff x="3844440" y="5600160"/>
                  <a:chExt cx="349560" cy="9216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 flipH="1" flipV="1">
                    <a:off x="3844440" y="5644080"/>
                    <a:ext cx="3024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flipH="1">
                    <a:off x="4106160" y="560052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 flipH="1" flipV="1">
                    <a:off x="4048560" y="5600160"/>
                    <a:ext cx="5760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flipH="1">
                    <a:off x="3990240" y="560052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H="1" flipV="1">
                    <a:off x="3932280" y="5600160"/>
                    <a:ext cx="5796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H="1">
                    <a:off x="3874680" y="5600520"/>
                    <a:ext cx="57600" cy="9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H="1" flipV="1">
                    <a:off x="4164120" y="5600160"/>
                    <a:ext cx="29880" cy="4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6" name=""/>
                <p:cNvSpPr/>
                <p:nvPr/>
              </p:nvSpPr>
              <p:spPr>
                <a:xfrm>
                  <a:off x="4195080" y="5646240"/>
                  <a:ext cx="57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789000" y="5646240"/>
                  <a:ext cx="57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"/>
              <p:cNvSpPr/>
              <p:nvPr/>
            </p:nvSpPr>
            <p:spPr>
              <a:xfrm>
                <a:off x="3784680" y="5403960"/>
                <a:ext cx="471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0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3814200" y="4990320"/>
              <a:ext cx="415440" cy="379800"/>
              <a:chOff x="3814200" y="4990320"/>
              <a:chExt cx="415440" cy="379800"/>
            </a:xfrm>
          </p:grpSpPr>
          <p:grpSp>
            <p:nvGrpSpPr>
              <p:cNvPr id="730" name=""/>
              <p:cNvGrpSpPr/>
              <p:nvPr/>
            </p:nvGrpSpPr>
            <p:grpSpPr>
              <a:xfrm>
                <a:off x="3846960" y="5186520"/>
                <a:ext cx="348120" cy="183600"/>
                <a:chOff x="3846960" y="5186520"/>
                <a:chExt cx="348120" cy="183600"/>
              </a:xfrm>
            </p:grpSpPr>
            <p:sp>
              <p:nvSpPr>
                <p:cNvPr id="731" name=""/>
                <p:cNvSpPr/>
                <p:nvPr/>
              </p:nvSpPr>
              <p:spPr>
                <a:xfrm flipV="1">
                  <a:off x="4079160" y="5186520"/>
                  <a:ext cx="0" cy="18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3962880" y="5186520"/>
                  <a:ext cx="0" cy="18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079160" y="5278680"/>
                  <a:ext cx="115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846960" y="5278680"/>
                  <a:ext cx="115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5" name=""/>
              <p:cNvSpPr/>
              <p:nvPr/>
            </p:nvSpPr>
            <p:spPr>
              <a:xfrm>
                <a:off x="3814200" y="4990320"/>
                <a:ext cx="415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100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2239920" y="375804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Times New Roman"/>
                </a:rPr>
                <a:t>R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09680" y="446652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2343960" y="3435840"/>
              <a:ext cx="455040" cy="287280"/>
              <a:chOff x="2343960" y="3435840"/>
              <a:chExt cx="455040" cy="287280"/>
            </a:xfrm>
          </p:grpSpPr>
          <p:sp>
            <p:nvSpPr>
              <p:cNvPr id="739" name=""/>
              <p:cNvSpPr/>
              <p:nvPr/>
            </p:nvSpPr>
            <p:spPr>
              <a:xfrm>
                <a:off x="2571480" y="3631320"/>
                <a:ext cx="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2467440" y="3631320"/>
                <a:ext cx="20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2343960" y="343584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730800" y="4137480"/>
              <a:ext cx="34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98600" y="4120200"/>
              <a:ext cx="1175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harge 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91400" y="4763160"/>
              <a:ext cx="119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igger 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12280" y="3199320"/>
              <a:ext cx="140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Preamplifier bl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487-80F9-40BA-AE5F-2F5510C590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urrent mirror performance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lly funct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adjustment : 1.25*1.33*1.5 = 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ow shaper : tp = 60 ns  G  = 34 mV/p.e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oise : 600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V  ; S/N = 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shaper : tp = 12 ns  G = 208 mV/p.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ity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% up to 80 photoelectrons. Dynamic range :  5000 = 12 bi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4316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FIG6" descr=""/>
          <p:cNvPicPr/>
          <p:nvPr/>
        </p:nvPicPr>
        <p:blipFill>
          <a:blip r:embed="rId1"/>
          <a:stretch/>
        </p:blipFill>
        <p:spPr>
          <a:xfrm>
            <a:off x="142920" y="2828880"/>
            <a:ext cx="4657680" cy="34956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FIG7BIS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4496040" cy="33721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2055240" y="341316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 MIP = 6 p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102640" y="557676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low shaper : Residuals of linear 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105520" y="3581280"/>
            <a:ext cx="342900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105520" y="4495680"/>
            <a:ext cx="342900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161760" y="44578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± 0.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39760" y="5257800"/>
            <a:ext cx="18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1/2 photelect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1F8C-D223-4E94-88C8-612C574E88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mmon base performance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lly functio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scillations between neighbours : 10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ecessary in emi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in adjustment : 1-4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and slow shaper similar to current mirror vers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ity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1% up to 90 photoelectrons. Dynamic range : 10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24316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5280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FIG12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552920" cy="341496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FIG13BIS" descr=""/>
          <p:cNvPicPr/>
          <p:nvPr/>
        </p:nvPicPr>
        <p:blipFill>
          <a:blip r:embed="rId2"/>
          <a:stretch/>
        </p:blipFill>
        <p:spPr>
          <a:xfrm>
            <a:off x="4572000" y="299088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5102640" y="556272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low shaper : Residuals of linear 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105520" y="3733920"/>
            <a:ext cx="342900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105520" y="4267080"/>
            <a:ext cx="3429000" cy="0"/>
          </a:xfrm>
          <a:prstGeom prst="line">
            <a:avLst/>
          </a:prstGeom>
          <a:ln cap="sq"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225480" y="4205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± 0.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828800" y="31240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reamp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37C-170E-4EDB-A0C8-234680EDF3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ise performance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ise in photoelectrons with variable sh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tter performance at fast shaping for the common 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ise dominated by parallel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4316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15280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16224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457200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79C-E3B0-4D26-99E7-0431EE438F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3178080" cy="4114800"/>
          </a:xfrm>
          <a:prstGeom prst="rect">
            <a:avLst/>
          </a:prstGeom>
          <a:ln w="0">
            <a:noFill/>
          </a:ln>
        </p:spPr>
      </p:pic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ront-end chip for HPD 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te front-end chip,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16 inputs, 1 trigger + 1 multiplexed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low noi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harge preamplifier (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0.25 p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shaper (75ns) for </a:t>
            </a:r>
            <a:r>
              <a:rPr b="0" lang="en-US" sz="1600" spc="-1" strike="noStrike">
                <a:solidFill>
                  <a:srgbClr val="009900"/>
                </a:solidFill>
                <a:latin typeface="Times New Roman"/>
              </a:rPr>
              <a:t>auto-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ow shaper (500 ns) for accurate charge measurement (minimum noi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chip track and hold and output multipl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synoptic2" descr=""/>
          <p:cNvPicPr/>
          <p:nvPr/>
        </p:nvPicPr>
        <p:blipFill>
          <a:blip r:embed="rId2"/>
          <a:stretch/>
        </p:blipFill>
        <p:spPr>
          <a:xfrm>
            <a:off x="228600" y="2924280"/>
            <a:ext cx="5543640" cy="37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3FC3-DB31-49E2-A73E-17BE666F8E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easurement results (I)</a:t>
            </a:r>
            <a:endParaRPr b="1" lang="en-US" sz="2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amplif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 channel with preamp output accessible, followed by variable sha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amplifier gain : 1.8 mV/p.e.  (1 p.e. = 3000 e-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se time : 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90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agreement with simulation, except for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80036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9810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6766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SIGPACN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226520" y="329076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Preamp output  Qin=10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2"/>
          <a:stretch/>
        </p:blipFill>
        <p:spPr>
          <a:xfrm>
            <a:off x="6326280" y="2133720"/>
            <a:ext cx="19796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        Opera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D40-6D37-4DF0-A80D-5AD4D7BEA2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9 july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6T11:37:33Z</dcterms:created>
  <dc:creator>CdLT</dc:creator>
  <dc:description/>
  <dc:language>en-US</dc:language>
  <cp:lastModifiedBy>J.E Campagne</cp:lastModifiedBy>
  <cp:lastPrinted>2000-09-07T15:05:17Z</cp:lastPrinted>
  <dcterms:modified xsi:type="dcterms:W3CDTF">2005-04-08T12:37:52Z</dcterms:modified>
  <cp:revision>89</cp:revision>
  <dc:subject/>
  <dc:title>LAr Status report  2001</dc:title>
</cp:coreProperties>
</file>